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108-99EF-44D7-BDAA-BAA83C1C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A5F-4CA7-4129-B7E7-3BC7312F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4D0-1D6D-4B41-AC00-3EF29693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62D-1291-4B90-AEA7-F8141E21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17A1-4757-456E-8C1D-D2D68FA8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5A7-7EFF-46DF-B0D1-0A90462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3F5-5DA7-48B1-9FB0-4BF93CF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4CF6-78BD-4956-AE0F-F587C6A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EF89-DDFC-4B9F-92F7-3E308EB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E44C-DF32-425E-9995-369A233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B54-84C7-4DC7-AB48-A6D35EA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61C-5B4C-4C46-8DF7-E58C65A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ADB-6286-46BA-9CEB-8B37C4F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8D7-EABF-421C-8FBC-AA7B969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7293-3825-47D1-8DE0-278B7E76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CDFA-0B23-435C-A318-EC4537D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B2B0-E5A3-4B08-9240-746FA88B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7D4-70C3-4B35-89C3-FFAB641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B46-51BF-4D45-B9BB-4951664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DE0-7107-459E-B85F-A5AFAC7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0DD-28CA-4920-9F9B-E2A2EB5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9CC-8C6A-4B9F-A9B7-E88B863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8C9-61F9-4092-93B5-244AB0D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079-F1FD-41E4-944C-F7D7CAE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3049-1DAC-404D-8A59-834DFBFCB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454-574B-431E-BA86-7C50AA3836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4/Rachel-Carso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21932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0" y="25146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здравствена зашт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д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62120" y="5486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 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тисан 1874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на својства откривена 1939.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940. до 1960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 је за сузбијање маларије и тифу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ма СЗ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ва акција је спасила око 2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забрањен због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ицаја на животну среди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iStock-898449496-compressor-e1519401819245.jpg"/>
          <p:cNvPicPr/>
          <p:nvPr/>
        </p:nvPicPr>
        <p:blipFill>
          <a:blip r:embed="rId1"/>
          <a:stretch/>
        </p:blipFill>
        <p:spPr>
          <a:xfrm>
            <a:off x="914400" y="457200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материја (полута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гађујућа материја (полутант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ефинише као супстанца која се јавља у животној средини и делимично може бити последица људске активности и изазива штетне ефекте по живе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име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асифик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гађивач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ирод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нтропоге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ОЈ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ас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еч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чврс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ВОЈСТВ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створљив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љ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мас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растворљив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зблаже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стојанос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еактивност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упстанца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ЕКТОРИ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аздух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земљиш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одук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агоревањ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орив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устријск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мунал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љопривред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ЕФЕК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ирект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ирект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оксик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кут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хронич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розив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генс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8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 у ланцу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3" descr="Capture.PNG"/>
          <p:cNvPicPr/>
          <p:nvPr/>
        </p:nvPicPr>
        <p:blipFill>
          <a:blip r:embed="rId1"/>
          <a:stretch/>
        </p:blipFill>
        <p:spPr>
          <a:xfrm>
            <a:off x="1633680" y="1633680"/>
            <a:ext cx="5876640" cy="4459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4114800" y="1676520"/>
            <a:ext cx="83808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809880" y="3276720"/>
            <a:ext cx="137160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038480" y="411480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809880" y="4876920"/>
            <a:ext cx="1371600" cy="1008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о    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286000" y="4876920"/>
            <a:ext cx="114300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 вазд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486400" y="4876920"/>
            <a:ext cx="121932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а   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лоровани бифени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C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олихлоровани бифенили (PCB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рганска једињења која садрже супституисане хлорове атоме. Они се не производе већ се стварају при производњи пластичних материјала, растварача, пестици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ом 70-их година утврђено да су токсични и да оствару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ген ефека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бог добре растворљивости у мастима олакшана је њихова акумулациј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 на уређаји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адрже PCB материјал, особађају се паре полихлорованих дибензодиоксина које су токсичне. Тако су забележене еколошке катастрофе 1977. године (Канада), 1985. године (Францус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цуривањем уљ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и PCB има катастрофалне последице јер се абсорбује у земљишту и и укључује у ланац исхране. Такав случај забележен је у Јапану 1968.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вод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4876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ње нафте из танке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.2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а тона годиш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џен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и радионукле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материје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штеточина и вектора болест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Untitled1-horz.jpg"/>
          <p:cNvPicPr/>
          <p:nvPr/>
        </p:nvPicPr>
        <p:blipFill>
          <a:blip r:embed="rId1"/>
          <a:stretch/>
        </p:blipFill>
        <p:spPr>
          <a:xfrm>
            <a:off x="5410080" y="2438280"/>
            <a:ext cx="358164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е и цијанотоксин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140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Цијанобактерије или 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одрозелен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алг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 веома разнолику групу прокариотских организама чија се старост процењује на отприлике 2,3 до 2,9 милијарди годи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ун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штачк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ер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ђубрива и детерџе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доводе до повећања концентрација соли фосфора и азота што узро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рм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а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. “цветањ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”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последица цветања је производња високо активних токсичних метаболита ил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algae.jpg"/>
          <p:cNvPicPr/>
          <p:nvPr/>
        </p:nvPicPr>
        <p:blipFill>
          <a:blip r:embed="rId1"/>
          <a:stretch/>
        </p:blipFill>
        <p:spPr>
          <a:xfrm>
            <a:off x="5638680" y="9907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цијаноток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и су према начину деловања односно  према типу токсичности који изазивају код животиња и  људи,  подељени у 4  клас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олисахаридни енд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забележени случај тровања цијанобак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8. године у Аустрали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вешка и Фин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штавање воденог екосисте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бројности бактерија, протозоа, ц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бројности риб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овидности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а температура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дизентерија, малариј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количина органских материја у 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 (ОЛОВО, ЖИВА, БАК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мерно загађењ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 и вод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ни удес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омаћинства и индустриј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чврстог отпада као ђубр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ција из ваздух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 и прашина и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ња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а и сне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 река и мор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пестици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ФИЗИЧК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ЗМЕН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ЕМЉ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бан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стру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ехничк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лоатац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х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ХЕМИЈСКО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ГАЂ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ив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ЉОПРИВРЕДА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ШУМАР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опривредн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ивач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ск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иња</a:t>
            </a:r>
            <a:r>
              <a:rPr b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ертификациј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земљиш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земљиш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 тешких метала, пестиц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 пустиња (дезертификациј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ин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 физички изглед (депониј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драва х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гађењ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3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уналног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изведе око 3,5 милиона m³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ног отпада (0,65–0,85 kg/становник/дан)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ој земљ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оји 170 званичних депонија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ј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тотина дивљих депон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57200" y="41911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устријск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дукује и депонује 6 -7 милиона тона пепел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 пепела и шљаке у нашој земљи заузимају 1.800 хекта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г земљ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vinca-deponija-djubre-smece-mondo-goran-sivacki-33.jpg"/>
          <p:cNvPicPr/>
          <p:nvPr/>
        </p:nvPicPr>
        <p:blipFill>
          <a:blip r:embed="rId1"/>
          <a:stretch/>
        </p:blipFill>
        <p:spPr>
          <a:xfrm>
            <a:off x="5943600" y="1371600"/>
            <a:ext cx="30481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mage22.jpg"/>
          <p:cNvPicPr/>
          <p:nvPr/>
        </p:nvPicPr>
        <p:blipFill>
          <a:blip r:embed="rId2"/>
          <a:stretch/>
        </p:blipFill>
        <p:spPr>
          <a:xfrm>
            <a:off x="5943600" y="44956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представља танак слој ваздуха (гасова) који окружује планету Зем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енергет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онс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sr-RS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Фотохемијски см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тање које настаје када примарне загађујуће супстанце (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отни оксид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арљива органска једиње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ала сагоревањем фосилних горива) интерагују под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јством сунчеве светл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ући смешу од опасних хемијских супстанци познатих као секундарне загађујуће супстанце од којих је најпознати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N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перокси-ацетил-нитр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381560" cy="300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038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" y="1143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 доводи до надражаја слузокоже дисајних органа, очију, и нарушавања вегет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хемијск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бил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6. 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ј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о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ширил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7" descr="cernobyl_radioactive_cloud.gif"/>
          <p:cNvPicPr/>
          <p:nvPr/>
        </p:nvPicPr>
        <p:blipFill>
          <a:blip r:embed="rId1"/>
          <a:stretch/>
        </p:blipFill>
        <p:spPr>
          <a:xfrm>
            <a:off x="4876920" y="1600200"/>
            <a:ext cx="3917880" cy="41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аздух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азду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озонског омота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селе киш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стаклене баш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ење шу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астма, бронхитис,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ућ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ласк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 коже (перкутано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ираторним путем (инхалација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естивним путем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гестија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ко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функционална јединица у природи, која укључује организме и њихову животну средину. Животна средина је сачињена о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одних хемијских 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штач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мијских супстан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е великог броја хемијских материја у воду,ваздух и земљиште у количинама које природа не може да превазиђе механизмима ауторегулације довело је до негативних утицаја на људско здравље и живот, флору и фау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921b650a76d7a32dbe94a0aaa0afd20b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кутани унос отро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 продре кроз кожу, онда њена токсичност зависи од степена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пциј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много брже кроз оштећену кож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се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овати кроз кожу зависи од њене растворљивости у мастима (липофилне супстанце).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могу да се растворе у мастима много брже пролазе кроз кожу од оних растворних у вод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ос отро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м путе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 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 ситних честица (прашина) или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ар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традиционалних аерозагађивача (сумпор диоксид, оксиди азота, угљен моноксид, суспендована честична материја и олово) директно утичe на респираторни и кардиоваскуларни сист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и пут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 се уносе загађујуће 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у присутне у храни и пић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ри томе с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преко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ок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ог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 загађујуће супстанц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4" descr=""/>
          <p:cNvPicPr/>
          <p:nvPr/>
        </p:nvPicPr>
        <p:blipFill>
          <a:blip r:embed="rId1"/>
          <a:stretch/>
        </p:blipFill>
        <p:spPr>
          <a:xfrm>
            <a:off x="401760" y="1517760"/>
            <a:ext cx="8304120" cy="499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533520" y="609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супстанц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токсична зависи од следећих проце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о дејство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рганизам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390600" y="1584360"/>
            <a:ext cx="33638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јство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 да надражују очи, горње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њ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е путев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3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HCHO (формалдехид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ови оксиди непосредно после продирања у организам за кратко време проузрокују оштећења плућ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16358df4d813ae64eb6f99bb7ecaff7.jpg"/>
          <p:cNvPicPr/>
          <p:nvPr/>
        </p:nvPicPr>
        <p:blipFill>
          <a:blip r:embed="rId1"/>
          <a:stretch/>
        </p:blipFill>
        <p:spPr>
          <a:xfrm>
            <a:off x="1143000" y="2209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ген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а, азбестн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а могу да проузрокуј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зу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ентарни алерг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на ко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, базе, растварачи,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 дермат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иоци животне средине који изазивају мутације се зову мутагени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је су хемијске промене гена, њиховог броја и редоследа у хромозомима и преносе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еће генерациј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дејства појединих хемијских супстанци су 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алије у развоју пло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вару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леков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нцерогено деј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ерогени агенс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дацима Међународне агенције за истраживање рака (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IАRC - The International Agency for Research оn Canc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видентирано је 783 канцерог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ски 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 метали и њихова једињ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нуклид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и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угљоводо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угљоводо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о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њем отрова у организам долази до тровања (интоксикациј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 зависи од експозиције и апсорбоване количине отров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оже би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ано уношење већих количина от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трајно понављано уношење отрова, углавном у мањим количинама - на радном месту (професионална тровања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токсикологиј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млада научна дисциплина која проучава утицај различитих хемијских супстанци на човекову околину. Човекову околину представвљају биљке и животиње настањене у води и земљиш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Untitled8.png"/>
          <p:cNvPicPr/>
          <p:nvPr/>
        </p:nvPicPr>
        <p:blipFill>
          <a:blip r:embed="rId1"/>
          <a:stretch/>
        </p:blipFill>
        <p:spPr>
          <a:xfrm>
            <a:off x="1219320" y="37339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тр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а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рта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следица по организам или са последицама по организа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а телесна оштећења или мања оштећењ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е супстан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447560"/>
            <a:ext cx="7543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групе супстанци које су токсичне, перзистентне и имају тенденцију биоакумулације или на други начин доприносе нивоу забринутости називају с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им супстанца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халација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ловни бензин, пестициди, антикорозивна заштита, топионице руда олова, акумулатори са оловом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мпа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устриј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МПТОМ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 цревне мускулату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неуропатиј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ђе 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ом глазуром у 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ем с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 садржај (вино, укисељено поврће и сл.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елин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њ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зу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ст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нзумент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разв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споје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1480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мељивачем екотоксикологије се сматра француски научник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haut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9-1994), који је крајем 60-тих година XX века, дефинисао термин екотоксикологије као науке која проучава токсичне ефекте разних агенаса на живе организме,а нарочито на популације и заједнице унутар еко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81640" cy="461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85800" y="5943600"/>
            <a:ext cx="281448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Truha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9 –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координациј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 нормалног ход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а моћ интелектуалног схват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емоцијама и расположењ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чул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укус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рганским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Орофарингеални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гив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дањ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Неуропсихички 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к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меркиза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ецифич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т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улмонал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ск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н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ис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о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ефро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ск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М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ђ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ђу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у што дај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кс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лминантним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тични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nekrotizirajuci dermatitis"/>
          <p:cNvPicPr/>
          <p:nvPr/>
        </p:nvPicPr>
        <p:blipFill>
          <a:blip r:embed="rId1"/>
          <a:stretch/>
        </p:blipFill>
        <p:spPr>
          <a:xfrm>
            <a:off x="5486400" y="1676520"/>
            <a:ext cx="327672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7" descr="Bronchial_Pneumonia550_ab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ог пери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јав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 дистроф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atrofija flava hepatis"/>
          <p:cNvPicPr/>
          <p:nvPr/>
        </p:nvPicPr>
        <p:blipFill>
          <a:blip r:embed="rId1"/>
          <a:stretch/>
        </p:blipFill>
        <p:spPr>
          <a:xfrm>
            <a:off x="5791320" y="1905120"/>
            <a:ext cx="3047760" cy="3527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320040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цим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228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питализ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о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рти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КР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84428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У ВОДИ ЗА ПИ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арција бакра у води за пиће варира као последица корозије водоводних цеви. Нивои у текућој и потпуно  пречишћеној води су углавном ниски, док су у стајаћим водама, као и у узорцима делимично пречишћене воде већи,често и прек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екотоксик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лавна подручја која чине суштину екотоксикологије су екологија и токсикологиј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ука која се бави односом између живих бића и животне средин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toxicum= отров;  Гр.  toxicon (toxicоn )= “стрелни отров Гр. logоs = реч,говор,разум...наука. Токсикологија је наука која се бави проучавањем ефеката токсичних материја на организ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62940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Е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Untitled4.png"/>
          <p:cNvPicPr/>
          <p:nvPr/>
        </p:nvPicPr>
        <p:blipFill>
          <a:blip r:embed="rId1"/>
          <a:stretch/>
        </p:blipFill>
        <p:spPr>
          <a:xfrm>
            <a:off x="5943600" y="4114800"/>
            <a:ext cx="277164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7.png"/>
          <p:cNvPicPr/>
          <p:nvPr/>
        </p:nvPicPr>
        <p:blipFill>
          <a:blip r:embed="rId2"/>
          <a:stretch/>
        </p:blipFill>
        <p:spPr>
          <a:xfrm>
            <a:off x="5943600" y="1371600"/>
            <a:ext cx="2819520" cy="2190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6548040" y="632448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Токси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3640" y="456840"/>
            <a:ext cx="77770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 НА БАЗИ БАК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љопривреди, за запрашивање биљака против корова,инсеката,гљи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казано да бакар представља озбиљну индустријску опасност,било од акутног или хроничног тровања,али  се зна да удисање пара бакарних соли,доводи до иритације и атрофије носне слузн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9480" y="990360"/>
            <a:ext cx="808848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ФЕСИОНАЛНА ЕКСПОЗИЦИЈА БАК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 топионица бакра су дуготрајно изложени пар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ашини које садрже високе концентрације бакр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се након дуготрајне експозиције испољава синдром сличан грипу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траје пар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Bakarni-sjaj-u-domu.jpg"/>
          <p:cNvPicPr/>
          <p:nvPr/>
        </p:nvPicPr>
        <p:blipFill>
          <a:blip r:embed="rId1"/>
          <a:stretch/>
        </p:blipFill>
        <p:spPr>
          <a:xfrm>
            <a:off x="1676520" y="3505320"/>
            <a:ext cx="3770280" cy="2743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3640" y="380880"/>
            <a:ext cx="767700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АКАР  У ВАЗДУХУ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бакра у ваздуху су ниске,тако да је изложеност респираторних органа бакру,практично занемарљи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о су особе које станују у близини топионица бакра,изложене високим концентрацијама бак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44704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И ЗНАЦИ ТРОВАЊА БАКРОМ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560" y="1752480"/>
            <a:ext cx="83818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акутног тровања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бол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ку,мучнину,повраћање,хематемезу,мелену,дијареју,жутиц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жим случајевима може се испољити хипотензија,ко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па се чак може и летално завршит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о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иритација и атрофија носне слузнице, надражајни кашаљ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рвенило,праћено сврабом,печењем,а некада кожа буде пребојена зеленом бојом.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тегобе се јављају и вртоглавица и главобоља,као знаци интоксикације централног нервног 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офесионално обољење из групе пнеумокониоза,које настаје услед удисања и нагомилавања честица силицијум-диоксид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ућим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облика силицијум-диоксида, а најраспрострањенији у природи је кварц који се налази у многим стенама, песку и он изазива најчешће силикотичке про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силикозе обољевају радници у рудницима (рударска болест),каменоломима, у индустрији где се копа и прерађује (камени угаљ,гранит, камени  песак злато,бакар,калај), у фабрикама где се сече, гравира и полира камен, као и у фабрикама стакла и керамик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плућима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силицијум-диоксида(страно тело) у плућима изазива реакцију околног ткива у виду накупљања везива и стварања чворића око ових чест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ку су ови чворићи величине 1-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стом се долази до колагенизације и хијалинизације њихове средине, те се суседни чворићи стапају у веће чворо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ремети нормалан крвоток и лимфоток у плућима па долази до настанка компликација  (бронхиектазија,емфизема плућа, оптерећења десног ср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јалини чворови такође показују тенденцију стварања каверни што представља подлогу за раст Кохових бацила,тако да је туберкулоза честа компликација силикозе. Поменуте промене у плућима се често компликују запаљењем плеуре (присутан је ексудат) са каснијим оптерећењем дес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првих симптома и знакова болести зависи од  дужине  експозиције, као и од узраста радника и стања ретикулоендотел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за испољавање силикозе потребно 3-5 година,међутим постоје и случајеви где се силикоза јавља и ран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в каша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разитије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пне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зање у груд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шаљ са искашљавањем лепљивог испљувка у коме има честиц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 и друге нау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5" descr=""/>
          <p:cNvPicPr/>
          <p:nvPr/>
        </p:nvPicPr>
        <p:blipFill>
          <a:blip r:embed="rId1"/>
          <a:stretch/>
        </p:blipFill>
        <p:spPr>
          <a:xfrm>
            <a:off x="755640" y="2041560"/>
            <a:ext cx="7480440" cy="4103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838080" y="1371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знања других 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дију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вентилације плућа са поремећајем механике дис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ци емфизема (бачваст грудни кош,проширени међуребарни простори,хиперсонарност)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лабљено дисање,са бронхогеним шушњевима и визингом,ређе продужен експирију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чана радња убрзана,тонови тих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хексија, узнемиреност, замарање при најмањем на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прекидан кашаљ, знаци хроничног плућ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 лечење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је превенирати ово обољење, применом општих и индивидуалних  заштитиних мера које се спроводе у циљу спречавања стварања и удисања праши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мере заштите: адекватна вентилација,чишћење радних просторија, одређивање процента заступљености силицијум диоксида у ваздух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е мере заштите: маске, филтрирајући респират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вне лекарске контроле, скраћење радног дана и дужи одм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и бронхитис,превенирати настанак туберкулоз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а радом, у случају да се болест открије у првом стадијуму, не доводи увек до престанка прогредирања обољ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откривена у другом или трећем стадијуму или ако је удружена са туберкулозом прогноза је неповољ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од штетних супстанц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140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екотоксиколошки подаци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 су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у лептир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ton betular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ј половини 19. век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49.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нађен је црн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јетет лептира назва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aria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ен великом количином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ђи из фабр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друге половине 19. века, учесталост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ла с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ико повећа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јете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Carbonaria"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влад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ебно у индустријском загађеном подручју Манчесте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3048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Е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66680"/>
            <a:ext cx="5943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оштећење животне средин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видентирал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истраживачи 1962. годи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Carson 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лежи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е негативне ефекте DDT-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локалну флору и фауну у Мериленд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. написа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ихо пролеће" у којој је детаљно описала штетне учинке DDT-а и сличних пестицида на људско здравље и прир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 је стекла велику популарност и убрзо након њене смрти власти САД су забраниле употребу DDT-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File:Rachel-Ca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2590920" cy="327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53080" y="4800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RACHEL CA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7 – 196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9:03:08Z</dcterms:created>
  <dc:creator>Maja</dc:creator>
  <dc:description/>
  <dc:language>en-US</dc:language>
  <cp:lastModifiedBy>Maja</cp:lastModifiedBy>
  <dcterms:modified xsi:type="dcterms:W3CDTF">2020-09-28T11:51:08Z</dcterms:modified>
  <cp:revision>370</cp:revision>
  <dc:subject/>
  <dc:title>Универзитет у Крагујевцу Факултет медицинских наука</dc:title>
</cp:coreProperties>
</file>